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4EB-D350-4C05-B1D1-44C6318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782-8436-45F2-902D-B9ED7E6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C6F8B-352A-43C9-8AF4-B6FF028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969C4-3B22-487D-8128-0380218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77604-F471-4D8C-81D9-15E9625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5E174-4E34-4004-83C8-83FD847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35969-3DB4-4171-B582-7A601F7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D057F-925C-418A-8BBC-0E06006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2ABEB-AD0B-47E7-87C1-9A28A16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4B7BE-8C93-4C64-AEB5-AF415C0B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C1DDB-B8DA-4556-A764-EEF666CE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4260E-804E-407E-A0DC-CE5F8C0A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EF4-2A0D-4795-B8E4-996F39E4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85AA2-4E90-44B0-A3A0-C727AE8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35896-A37A-48F8-9A6A-E60E8ED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BBC82-5367-4487-A258-0526B18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658B3-B41C-4B60-B27D-DE54431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E030B-BD79-4F3F-A1EC-8EEE0B2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FDFAF-AD63-49D6-BAFF-65C6A60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2E1B4-EEEB-4F6A-9ECB-F1C9690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3DB9B-BDC0-443E-9CC4-4947424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94AA2-CAB1-4C35-B8DF-4457807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6D704-8C0A-458F-9762-9E8D4EFB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793-3A9B-4CBF-9C07-B7D8EBDC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C4A49-99A1-408F-B0A7-76AA00B9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4908-1B1B-4901-B389-432A509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6562-E1C4-4892-88D4-38F50945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2F5F3-1ACE-4689-8CF9-56DE242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90605-7EC6-46C9-B632-17C000E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60FFF-0972-4E44-988A-4693436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974B5-B5AA-4A8D-9DFC-4215745D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02645-F0FB-4E1B-9572-F68C8619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03203-8899-4B16-AE90-92EA9CC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7761-782C-4FEE-A947-1BFB0BA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5D4D-F774-46F1-9C56-CCD34AF1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C0AFE-5931-4C00-B38E-723D1B8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CE23-5A7B-41F5-AEA7-B7ABB2D8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789F-D513-43C0-A019-CC9BD278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966EF-1A74-43D3-81F9-F0C4F7D1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2B677-36B5-4924-B09F-F046786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688C1-0EE1-45DE-A38B-AA5D2752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67C08-031D-455B-A280-F214ACB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D1395-C09C-441B-9266-1BE99E2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A21F5-5E00-4442-80E1-2E4079B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305D6-EB39-44CD-9983-9954FDF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D61E-80AB-4D43-8B53-C8B4540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C0DDC-8DD3-445B-B6B4-8923D88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C3CA7-9E10-4182-8EAA-51E265B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7D573-E777-43A7-9EF0-E3688C04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89DA5-FA21-46D6-B278-FBB0160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B21D0-9A30-4876-9B8B-2FBA24C4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E15A-F7C0-415D-B790-D061D81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606A-8BC6-478D-852C-E22BB7D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86A-843F-41E9-9E12-B18F579B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746E-A3C6-4734-9FD9-F397D7E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BEC-170B-4C33-B95D-896BAEB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618-6555-4678-832D-9A57545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D077-0D47-450F-81EA-3999BD4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30E9-F0BD-49A2-BBD3-B58E8D3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6709-3D9D-4735-9DC3-61ADFE90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78E2-966E-46AB-9EEE-810FF3E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863-B72C-4211-A10D-19F5454A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FF2A-FBEA-4CAC-8429-9170DF9A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46D1-A391-4BCC-AC03-5A1DEC3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2B22-785C-408B-87E4-D02B4D3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43E4-96CA-42C4-AAF1-AC836949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ACA9-6890-4689-B224-AA459B1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4DD-19C1-4145-A3B8-F4E561B2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882B-8446-43BF-966D-51A6573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D385-206D-4B5A-B670-D79D108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1270-3FBB-4E52-9363-A4C522A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039A-820D-4C45-A577-33FD90BF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B104-47C7-445F-92FA-A73A8DA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6093-6091-47DA-8C88-E8C1D1AE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AAC0-F908-4435-8F3D-A82F9FE7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40ED-FA7E-48AA-95E1-A2888E02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BFCB-70E1-42DD-8041-C586BDA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3FCC-8C44-46D4-9FA9-DDC33699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3E9-A350-4775-87FD-21DD454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0B6E-119B-431A-9116-22A6794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D96B-A103-4442-AD5D-A9D4183C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C26C-82AD-46E5-AF0E-8B8946D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C39F-17D2-4651-AE3D-144179CB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89DD-A483-4086-8D2F-0FDEFB9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B6A6-F1C6-48D0-B496-2951BB6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93C1-17E6-47AF-8581-F711E8DB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B849-FFA5-454C-8315-FD6FD752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FE70-26EB-4318-9885-45CADD33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83AC-2CEF-4E2D-BE27-E2066129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263-28B0-40D6-98AB-94A9B90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D044-5A90-4BF0-BB35-6848413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0CD5-F642-45DD-B2C6-4D450408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94150-7F98-4CD5-B7D4-7545523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A9CC-43FB-4731-86F2-95BF19F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9EB5-044F-41C9-B918-9B93F4CE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0B12-66C1-444E-8526-C1CF90B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43A0-008F-4AC9-8D2B-937C6E1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1432-2DB3-423F-9500-4EF72E81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8162-B910-4D66-A38B-B7CE864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5344-2CF4-4111-A21C-37771AAA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1DF-340B-4C7F-A1A6-4FA8F9D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5C196-1C65-4BB4-A68B-DA12869F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A5A0-39B4-43CC-A81A-3590575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8B42-8278-4577-9C9F-FA98212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3D593-A468-45C4-A4AF-F6746AB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0159-BFCD-4B09-981C-1ADCC18C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052E-934E-40FC-BD71-45AA91F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5B540-4D41-44D8-B030-14FC656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C067-1098-480D-A75D-5068884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E605-85AA-4C53-BE72-4F9EFF5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C004-3F62-473E-9850-5E3B986C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6F4-DA80-4A43-91DD-8C749C6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3F81-ED2E-4B7D-A5FF-D4C5BF52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840C-9C2D-4E3E-A24D-E6602DE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31D6-216C-472F-A092-15896CF5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163A-BD5F-4F54-BE3E-DA1F5A7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97792-F6E9-4501-936F-BA71D81F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1B54-D28F-4AE2-8E09-CC2C834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DD0D-33F9-4544-B417-4B2EA67A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DBC5-FFC6-498E-9F01-6096488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F0C24-3A67-4C3E-A50D-B7C9D16B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56B83-DEF5-4219-8D55-7AEF270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C22-74D1-4CD5-80F0-5A3AF38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4EFC-D6DE-4FB6-B67E-6A89A06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F2D5-2DF0-4233-8AF7-82EB473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74E5-858D-4F3F-89CE-7DDDF60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81CD-72F6-41AF-9E79-BE9972CF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2CA31-397A-4B4A-BEAD-5E3AD607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DD0A-3A42-44C1-83AE-73EA62B7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1E94-5C72-41A3-8F17-50722AE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8B54B-27A4-423E-9CD5-8F9E8FB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F11E-7353-4003-ABD7-59BC6BA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C210-1EBC-46D0-80F5-D3E6B8D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31E-CC71-412E-B9D6-F2A5147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18B3-3DF8-4FE1-8027-B7D3AC71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3E6FF-1483-4BC0-9E3B-E82F8576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F01F6-2775-416E-8138-5A0E94A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1339A-C1C6-457D-BBE0-1326F17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AA588-F194-485D-8D3C-8A31C48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7062-AEDF-4D2F-A6CB-EEFE556A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0A9A-12AE-4F4C-997B-940D8620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D0C02-3E13-4555-B4C7-08AD9999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E6FBF-F242-4961-98CE-8356EF2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3365C-E974-49F9-A0AE-1E6E9B9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062B4-487C-4D0B-AC67-574387BD6E9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2458D-94D7-4CDD-BF9C-F7E006BEE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80296-822C-4A5E-BF41-0E630F1D4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2C1F9-FDA0-490E-923E-3C661411F5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B346F-AD20-4A8F-AB02-CFEB23905C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C943A-AFE9-4113-BF44-EC9145E14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272EC-F24B-42A0-974F-C51CF021C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4470E-A08A-45B9-B544-30D6A3CE698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EF42F-4B73-405D-83B7-142B1093E2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7E4F7-F447-4DFB-B409-CA04235A6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516D3-4043-4FD2-A858-568B0BEBF7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A4BB3-5A8E-4C5E-B0E9-D97EF19E8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6A3A0-D326-4830-9481-4E8F4BC56D4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99243-C050-445C-BB8C-B3639482A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BD093-37A3-422B-9EFD-59D7C88D4ED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22F91-413B-4C8D-979F-94BEA9C4C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9361E-1AD9-4DEC-A49F-4842B5D78B9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26DFE-1BF2-4CE8-99D5-DE360D9F9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9513E-098A-4CD6-B30E-0E8D377A54E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3D793-6C32-458D-B043-C7DFA6E84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3422C-C072-42B6-832E-ED40B608E8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A87BC-245F-468A-9777-23E41AD983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DAE18-4C38-4FAE-8760-C906BDA21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0B3D1-B77D-4746-8A8C-7C6FCBB16FB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hitler&amp;num=10&amp;um=1&amp;hl=en&amp;client=firefox-a&amp;rls=org.mozilla:en-US:official&amp;biw=1827&amp;bih=918&amp;tbm=isch&amp;tbnid=TY0KGBO1zEaZZM:&amp;imgrefurl=http://www.tallarmeniantale.com/hitler-quote.htm&amp;docid=6ztdC2UPN9vl5M&amp;imgurl=http://www.tallarmeniantale.com/pics/hitler2.JPG&amp;w=255&amp;h=288&amp;ei=f9IFT_3_NerY0QGqgcGbAg&amp;zoom=1&amp;iact=hc&amp;vpx=458&amp;vpy=361&amp;dur=541&amp;hovh=172&amp;hovw=151&amp;tx=85&amp;ty=114&amp;sig=103217518084304061371&amp;sqi=2&amp;page=1&amp;tbnh=172&amp;tbnw=151&amp;start=0&amp;ndsp=41&amp;ved=1t:429,r:12,s: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stalin&amp;num=10&amp;um=1&amp;hl=en&amp;client=firefox-a&amp;rls=org.mozilla:en-US:official&amp;biw=1827&amp;bih=918&amp;tbm=isch&amp;tbnid=rlQvTm351O05DM:&amp;imgrefurl=http://www.counter-currents.com/2011/04/exposing-stalins-plan-to-conquer-europe/&amp;docid=tQwXmR5i1tRrIM&amp;imgurl=http://cdn.counter-currents.com/wp-content/uploads/2011/04/stalin_victory.jpg&amp;w=335&amp;h=328&amp;ei=itIFT4awG8Xi0QHI1NjPAg&amp;zoom=1&amp;iact=hc&amp;vpx=385&amp;vpy=182&amp;dur=690&amp;hovh=222&amp;hovw=227&amp;tx=118&amp;ty=118&amp;sig=103217518084304061371&amp;sqi=2&amp;page=1&amp;tbnh=155&amp;tbnw=161&amp;start=0&amp;ndsp=41&amp;ved=1t:429,r:1,s: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countdown-timer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R. RUS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Pardon the Interruption</a:t>
            </a:r>
            <a:br>
              <a:rPr sz="3800"/>
            </a:b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Axis Aggression</a:t>
            </a:r>
            <a:br>
              <a:rPr sz="3800"/>
            </a:b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were you think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ad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rg_hi" descr="http://t2.gstatic.com/images?q=tbn:ANd9GcRuXqaOKysPy1tAD50IMdWQJ99LMJK6K9unbOBnvsqMkwNgvKH5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5960" y="1301760"/>
            <a:ext cx="6458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Joseph Stalin- Soviet Union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at are you thinki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ing the Non Aggression Pact with 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rg_hi" descr="http://t3.gstatic.com/images?q=tbn:ANd9GcTujc6DemwjlBq0N48S8B--tsu7jSXJDCEhi5JP6O7KORMamZCI1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5880" y="2568600"/>
            <a:ext cx="2886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ville Chamberlain- Leader of Brit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 Attacking Hitler’s Aggression-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were you thinking with appeasemen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rg_hi" descr="http://t3.gstatic.com/images?q=tbn:ANd9GcR5gq8afd6I1CDa3Qp2DFgsQPgDpc3rWzSwBvS-B53CNrLooM87MA"/>
          <p:cNvPicPr/>
          <p:nvPr/>
        </p:nvPicPr>
        <p:blipFill>
          <a:blip r:embed="rId1"/>
          <a:stretch/>
        </p:blipFill>
        <p:spPr>
          <a:xfrm>
            <a:off x="3327480" y="2516040"/>
            <a:ext cx="2235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it Tic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a 1 sentence explanation of ea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eas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l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rance Tic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down each term on notebook pap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eas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l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online-stopwatch.com/countdown-timer/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eaty of Versaille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Hitler have a legitimate beef over the Treaty of Versailles?  Yes or No?  Wh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eas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the lack of action by the Allies to Hitler’s agres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xis Pow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 Powers- What percent chance do the Axis have of win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tler’s Aggre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id Hitler do that was aggressive?  What territories did he take over?  At what point, would you have intervened (if at all?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on Aggression Pa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- Mistake for Hitler- Why or Why no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o ya go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ya got?  Axis or Allied Pow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6:47:23Z</dcterms:created>
  <dc:creator>Craig Rush</dc:creator>
  <dc:description/>
  <dc:language>en-US</dc:language>
  <cp:lastModifiedBy>Craig Rush</cp:lastModifiedBy>
  <dcterms:modified xsi:type="dcterms:W3CDTF">2012-01-05T17:03:04Z</dcterms:modified>
  <cp:revision>4</cp:revision>
  <dc:subject/>
  <dc:title>Pardon the Interruption Axis Aggression</dc:title>
</cp:coreProperties>
</file>